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Pods start at 299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4 inch diagonal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Pad 4th Generation start at 499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9.7 inch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Pad mini start at 329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7.9 inch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Braille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VO with a Braille display to teach Braille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Education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Learning app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ubmitting lesson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O&amp;M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Pictello app to go through the sequence of events or a route before the lesson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Pass out iDevices, Hand Gestures, Siri commands,  and VO HO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ands on practice with: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Accessibility 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ot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afari w/Reade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Book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Accessibility 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ot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afari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Book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amera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5 mega pixel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Zoom Level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100% - 500%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Dbl tap = 200%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Large Type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up to 56 pt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peak selection, hints, auto tex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LEAVE ON VO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ot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Safari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Book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Pass out Brl Shortcuts HO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ommon passcod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0000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1234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Use Note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11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1026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54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2055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2055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2055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2984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5965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894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1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263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5277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7920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055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055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055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2984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5965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894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1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http://m.youtube.com/watch?v=KvLoUNlwNBM" TargetMode="External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181120"/>
            <a:ext cx="125236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le Accessibility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"/>
          <p:cNvSpPr/>
          <p:nvPr/>
        </p:nvSpPr>
        <p:spPr>
          <a:xfrm>
            <a:off x="509760" y="7556400"/>
            <a:ext cx="98661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resentation by: Chelsea Bridg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7" name=""/>
          <p:cNvSpPr/>
          <p:nvPr/>
        </p:nvSpPr>
        <p:spPr>
          <a:xfrm>
            <a:off x="501480" y="8334360"/>
            <a:ext cx="1172556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FIMC-VI's Working with the Experts -- December 6, 201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S_2.jpg" descr=""/>
          <p:cNvPicPr/>
          <p:nvPr/>
        </p:nvPicPr>
        <p:blipFill>
          <a:blip r:embed="rId1"/>
          <a:stretch/>
        </p:blipFill>
        <p:spPr>
          <a:xfrm flipH="1"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3480" y="4533480"/>
            <a:ext cx="3735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ccessorie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7" name=""/>
          <p:cNvSpPr/>
          <p:nvPr/>
        </p:nvSpPr>
        <p:spPr>
          <a:xfrm rot="621000">
            <a:off x="5019480" y="3177720"/>
            <a:ext cx="7584840" cy="5662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luetooth keyboar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freshable Braille displa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joystic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licator stic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key guar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8" name="asset.PNG" descr=""/>
          <p:cNvPicPr/>
          <p:nvPr/>
        </p:nvPicPr>
        <p:blipFill>
          <a:blip r:embed="rId2"/>
          <a:srcRect l="0" t="17650" r="0" b="17650"/>
          <a:stretch/>
        </p:blipFill>
        <p:spPr>
          <a:xfrm rot="984600">
            <a:off x="2468160" y="1173240"/>
            <a:ext cx="1389240" cy="5983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9" name="InsertedImage.jpg" descr=""/>
          <p:cNvPicPr/>
          <p:nvPr/>
        </p:nvPicPr>
        <p:blipFill>
          <a:blip r:embed="rId3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S_2.jpg" descr=""/>
          <p:cNvPicPr/>
          <p:nvPr/>
        </p:nvPicPr>
        <p:blipFill>
          <a:blip r:embed="rId1"/>
          <a:stretch/>
        </p:blipFill>
        <p:spPr>
          <a:xfrm flipH="1"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3480" y="4533480"/>
            <a:ext cx="3735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2" name=""/>
          <p:cNvSpPr/>
          <p:nvPr/>
        </p:nvSpPr>
        <p:spPr>
          <a:xfrm>
            <a:off x="5019840" y="3178080"/>
            <a:ext cx="7584840" cy="5662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ad User Guid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iA app from Braille Institut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levis.co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ERnet Listserv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FAAS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813.844.776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73" name="asset.PNG" descr=""/>
          <p:cNvPicPr/>
          <p:nvPr/>
        </p:nvPicPr>
        <p:blipFill>
          <a:blip r:embed="rId2"/>
          <a:srcRect l="0" t="17650" r="0" b="17650"/>
          <a:stretch/>
        </p:blipFill>
        <p:spPr>
          <a:xfrm rot="984600">
            <a:off x="2468160" y="1173240"/>
            <a:ext cx="1389240" cy="5983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74" name="InsertedImage.jpg" descr=""/>
          <p:cNvPicPr/>
          <p:nvPr/>
        </p:nvPicPr>
        <p:blipFill>
          <a:blip r:embed="rId3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CS_4.jpg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13004640" cy="9740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782720" y="816120"/>
            <a:ext cx="9080640" cy="4165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Q&amp;A</a:t>
            </a:r>
            <a:endParaRPr b="0" lang="en-US" sz="20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S7.png" descr=""/>
          <p:cNvPicPr/>
          <p:nvPr/>
        </p:nvPicPr>
        <p:blipFill>
          <a:blip r:embed="rId1"/>
          <a:stretch/>
        </p:blipFill>
        <p:spPr>
          <a:xfrm>
            <a:off x="0" y="2882880"/>
            <a:ext cx="13004640" cy="6147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74422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helsea Bridges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ampa Lighthouse f/t Blind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813 . 251 . 2407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helsea.Bridges@tampalighthouse.org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21297000">
            <a:off x="2541240" y="3004920"/>
            <a:ext cx="4643280" cy="656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ypes of Devic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ros and Con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Uses in our Fiel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he iPa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ccessori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59" name="C2_3.jpg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13004640" cy="2921040"/>
          </a:xfrm>
          <a:prstGeom prst="rect">
            <a:avLst/>
          </a:prstGeom>
          <a:ln w="0">
            <a:noFill/>
          </a:ln>
        </p:spPr>
      </p:pic>
      <p:pic>
        <p:nvPicPr>
          <p:cNvPr id="160" name="InsertedImage.jpg" descr="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848880" y="1182600"/>
            <a:ext cx="1389240" cy="598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61" name="CS5.png" descr=""/>
          <p:cNvPicPr/>
          <p:nvPr/>
        </p:nvPicPr>
        <p:blipFill>
          <a:blip r:embed="rId3"/>
          <a:srcRect l="81318" t="4295" r="-2619" b="-12886"/>
          <a:stretch/>
        </p:blipFill>
        <p:spPr>
          <a:xfrm>
            <a:off x="9996480" y="1179360"/>
            <a:ext cx="2689200" cy="1766880"/>
          </a:xfrm>
          <a:prstGeom prst="rect">
            <a:avLst/>
          </a:prstGeom>
          <a:ln w="0">
            <a:noFill/>
          </a:ln>
        </p:spPr>
      </p:pic>
      <p:pic>
        <p:nvPicPr>
          <p:cNvPr id="162" name="CS5.png" descr=""/>
          <p:cNvPicPr/>
          <p:nvPr/>
        </p:nvPicPr>
        <p:blipFill>
          <a:blip r:embed="rId4"/>
          <a:srcRect l="41297" t="0" r="41297" b="0"/>
          <a:stretch/>
        </p:blipFill>
        <p:spPr>
          <a:xfrm>
            <a:off x="5226120" y="919080"/>
            <a:ext cx="2263680" cy="1676520"/>
          </a:xfrm>
          <a:prstGeom prst="rect">
            <a:avLst/>
          </a:prstGeom>
          <a:ln w="0">
            <a:noFill/>
          </a:ln>
        </p:spPr>
      </p:pic>
      <p:pic>
        <p:nvPicPr>
          <p:cNvPr id="163" name="InsertedImage.png" descr=""/>
          <p:cNvPicPr/>
          <p:nvPr/>
        </p:nvPicPr>
        <p:blipFill>
          <a:blip r:embed="rId5"/>
          <a:srcRect l="7789" t="-8912" r="-794" b="13696"/>
          <a:stretch/>
        </p:blipFill>
        <p:spPr>
          <a:xfrm flipH="1" rot="16638600">
            <a:off x="3245040" y="865440"/>
            <a:ext cx="1439640" cy="1442160"/>
          </a:xfrm>
          <a:prstGeom prst="rect">
            <a:avLst/>
          </a:prstGeom>
          <a:ln w="0">
            <a:noFill/>
          </a:ln>
        </p:spPr>
      </p:pic>
      <p:pic>
        <p:nvPicPr>
          <p:cNvPr id="164" name="InsertedImage.png" descr=""/>
          <p:cNvPicPr/>
          <p:nvPr/>
        </p:nvPicPr>
        <p:blipFill>
          <a:blip r:embed="rId6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7"/>
          </p:cNvPr>
          <p:cNvSpPr/>
          <p:nvPr/>
        </p:nvSpPr>
        <p:spPr>
          <a:xfrm>
            <a:off x="8653320" y="8005680"/>
            <a:ext cx="3357720" cy="8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95cc4"/>
                </a:solidFill>
                <a:latin typeface="Noteworthy Light"/>
                <a:ea typeface="Noteworthy Light"/>
              </a:rPr>
              <a:t>Papa's New iPa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31280" y="3595320"/>
            <a:ext cx="48913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od Touch 5th Generation</a:t>
            </a:r>
            <a:endParaRPr b="0" lang="en-US" sz="33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7" name="CS_2.jpg" descr=""/>
          <p:cNvPicPr/>
          <p:nvPr/>
        </p:nvPicPr>
        <p:blipFill>
          <a:blip r:embed="rId1"/>
          <a:stretch/>
        </p:blipFill>
        <p:spPr>
          <a:xfrm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5267160" y="6587640"/>
            <a:ext cx="469440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ad with Retina Display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478800" y="3595680"/>
            <a:ext cx="2438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Pad mini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0" name="InsertedImage.jpg" descr=""/>
          <p:cNvPicPr/>
          <p:nvPr/>
        </p:nvPicPr>
        <p:blipFill>
          <a:blip r:embed="rId2"/>
          <a:srcRect l="14287" t="0" r="14287" b="0"/>
          <a:stretch/>
        </p:blipFill>
        <p:spPr>
          <a:xfrm>
            <a:off x="722160" y="4854600"/>
            <a:ext cx="4310280" cy="3862440"/>
          </a:xfrm>
          <a:prstGeom prst="rect">
            <a:avLst/>
          </a:prstGeom>
          <a:ln w="0">
            <a:noFill/>
          </a:ln>
        </p:spPr>
      </p:pic>
      <p:pic>
        <p:nvPicPr>
          <p:cNvPr id="171" name="InsertedImage.jpg" descr=""/>
          <p:cNvPicPr/>
          <p:nvPr/>
        </p:nvPicPr>
        <p:blipFill>
          <a:blip r:embed="rId3"/>
          <a:srcRect l="7244" t="6936" r="37685" b="3699"/>
          <a:stretch/>
        </p:blipFill>
        <p:spPr>
          <a:xfrm rot="760800">
            <a:off x="10139400" y="6356520"/>
            <a:ext cx="2316240" cy="2943000"/>
          </a:xfrm>
          <a:prstGeom prst="rect">
            <a:avLst/>
          </a:prstGeom>
          <a:ln w="0">
            <a:noFill/>
          </a:ln>
        </p:spPr>
      </p:pic>
      <p:pic>
        <p:nvPicPr>
          <p:cNvPr id="172" name="InsertedImage.jpg" descr=""/>
          <p:cNvPicPr/>
          <p:nvPr/>
        </p:nvPicPr>
        <p:blipFill>
          <a:blip r:embed="rId4"/>
          <a:stretch/>
        </p:blipFill>
        <p:spPr>
          <a:xfrm rot="20436600">
            <a:off x="7567560" y="3793680"/>
            <a:ext cx="1552680" cy="2059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250920" y="2162160"/>
            <a:ext cx="4506840" cy="96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he iOS Family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0240" y="3701880"/>
            <a:ext cx="5288040" cy="528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uilt-in accessibilit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ainstream devic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eachers can monitor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chools are purchasing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less expensiv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ortabl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570880" y="2815920"/>
            <a:ext cx="1495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on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"/>
          <p:cNvSpPr/>
          <p:nvPr/>
        </p:nvSpPr>
        <p:spPr>
          <a:xfrm>
            <a:off x="6775560" y="3624120"/>
            <a:ext cx="5878440" cy="544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hef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tudents off tas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heating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"everything" CANNOT be don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41240" indent="-360360">
              <a:lnSpc>
                <a:spcPct val="100000"/>
              </a:lnSpc>
              <a:buClr>
                <a:srgbClr val="000000"/>
              </a:buClr>
              <a:buFont typeface="Noteworthy Ligh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chool districts not allow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7" name="CS_2.jpg" descr=""/>
          <p:cNvPicPr/>
          <p:nvPr/>
        </p:nvPicPr>
        <p:blipFill>
          <a:blip r:embed="rId1"/>
          <a:stretch/>
        </p:blipFill>
        <p:spPr>
          <a:xfrm flipH="1"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pic>
        <p:nvPicPr>
          <p:cNvPr id="178" name="InsertedImage.jpg" descr="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172960" y="1186920"/>
            <a:ext cx="1390680" cy="598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9" name="InsertedImage.jpg" descr=""/>
          <p:cNvPicPr/>
          <p:nvPr/>
        </p:nvPicPr>
        <p:blipFill>
          <a:blip r:embed="rId3"/>
          <a:stretch/>
        </p:blipFill>
        <p:spPr>
          <a:xfrm rot="1532400">
            <a:off x="8408880" y="504720"/>
            <a:ext cx="1554120" cy="20592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89080" y="2451240"/>
            <a:ext cx="1890720" cy="11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ro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S_2.jpg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88480" y="3422520"/>
            <a:ext cx="476892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Uses in our field ...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3" name=""/>
          <p:cNvSpPr/>
          <p:nvPr/>
        </p:nvSpPr>
        <p:spPr>
          <a:xfrm>
            <a:off x="2637000" y="5016600"/>
            <a:ext cx="3800160" cy="1217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raille Literacy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4" name="InsertedImage.jpg" descr="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468160" y="1198440"/>
            <a:ext cx="1389240" cy="598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5" name=""/>
          <p:cNvSpPr/>
          <p:nvPr/>
        </p:nvSpPr>
        <p:spPr>
          <a:xfrm>
            <a:off x="8839080" y="7431120"/>
            <a:ext cx="2005200" cy="156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O&amp;M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6" name=""/>
          <p:cNvSpPr/>
          <p:nvPr/>
        </p:nvSpPr>
        <p:spPr>
          <a:xfrm>
            <a:off x="5213520" y="6178680"/>
            <a:ext cx="4186080" cy="143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Educational Tool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7" name="InsertedImage.jpg" descr=""/>
          <p:cNvPicPr/>
          <p:nvPr/>
        </p:nvPicPr>
        <p:blipFill>
          <a:blip r:embed="rId3"/>
          <a:stretch/>
        </p:blipFill>
        <p:spPr>
          <a:xfrm rot="1532400">
            <a:off x="7826400" y="55872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79520" y="128520"/>
            <a:ext cx="2989080" cy="167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Noteworthy Bold"/>
                <a:ea typeface="Noteworthy Bold"/>
              </a:rPr>
              <a:t>iPad</a:t>
            </a:r>
            <a:endParaRPr b="0" lang="en-US" sz="7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9" name=""/>
          <p:cNvSpPr/>
          <p:nvPr/>
        </p:nvSpPr>
        <p:spPr>
          <a:xfrm flipH="1" rot="2700000">
            <a:off x="5790960" y="6202080"/>
            <a:ext cx="533160" cy="533160"/>
          </a:xfrm>
          <a:prstGeom prst="pie">
            <a:avLst/>
          </a:prstGeom>
          <a:solidFill>
            <a:srgbClr val="d3f2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89120" y="425520"/>
            <a:ext cx="11786040" cy="9270000"/>
            <a:chOff x="789120" y="425520"/>
            <a:chExt cx="11786040" cy="9270000"/>
          </a:xfrm>
        </p:grpSpPr>
        <p:pic>
          <p:nvPicPr>
            <p:cNvPr id="191" name="InsertedImage.jpg" descr=""/>
            <p:cNvPicPr/>
            <p:nvPr/>
          </p:nvPicPr>
          <p:blipFill>
            <a:blip r:embed="rId1"/>
            <a:srcRect l="23419" t="0" r="24941" b="0"/>
            <a:stretch/>
          </p:blipFill>
          <p:spPr>
            <a:xfrm>
              <a:off x="4023360" y="1972800"/>
              <a:ext cx="5395320" cy="652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3085200" y="819360"/>
              <a:ext cx="3372120" cy="1734120"/>
              <a:chOff x="3085200" y="819360"/>
              <a:chExt cx="3372120" cy="1734120"/>
            </a:xfrm>
          </p:grpSpPr>
          <p:sp>
            <p:nvSpPr>
              <p:cNvPr id="193" name=""/>
              <p:cNvSpPr/>
              <p:nvPr/>
            </p:nvSpPr>
            <p:spPr>
              <a:xfrm>
                <a:off x="3085200" y="819360"/>
                <a:ext cx="3372120" cy="1337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Headphone jack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4674600" y="1938600"/>
                <a:ext cx="611280" cy="61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743960" y="425520"/>
              <a:ext cx="4158000" cy="1849320"/>
              <a:chOff x="7743960" y="425520"/>
              <a:chExt cx="4158000" cy="1849320"/>
            </a:xfrm>
          </p:grpSpPr>
          <p:sp>
            <p:nvSpPr>
              <p:cNvPr id="196" name=""/>
              <p:cNvSpPr/>
              <p:nvPr/>
            </p:nvSpPr>
            <p:spPr>
              <a:xfrm>
                <a:off x="7821720" y="425520"/>
                <a:ext cx="4080240" cy="1392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Sleep/Wake button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743960" y="1559880"/>
                <a:ext cx="702360" cy="71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987040" y="2556720"/>
              <a:ext cx="3588120" cy="1049760"/>
              <a:chOff x="8987040" y="2556720"/>
              <a:chExt cx="3588120" cy="1049760"/>
            </a:xfrm>
          </p:grpSpPr>
          <p:sp>
            <p:nvSpPr>
              <p:cNvPr id="199" name=""/>
              <p:cNvSpPr/>
              <p:nvPr/>
            </p:nvSpPr>
            <p:spPr>
              <a:xfrm>
                <a:off x="9678600" y="2556720"/>
                <a:ext cx="2896560" cy="104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Slide switch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8987040" y="3067200"/>
                <a:ext cx="88236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1320" bIns="-3132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8745480" y="3684240"/>
              <a:ext cx="3550680" cy="1227960"/>
              <a:chOff x="8745480" y="3684240"/>
              <a:chExt cx="3550680" cy="1227960"/>
            </a:xfrm>
          </p:grpSpPr>
          <p:sp>
            <p:nvSpPr>
              <p:cNvPr id="202" name=""/>
              <p:cNvSpPr/>
              <p:nvPr/>
            </p:nvSpPr>
            <p:spPr>
              <a:xfrm>
                <a:off x="9319320" y="3758760"/>
                <a:ext cx="2976840" cy="1153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Volume control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45480" y="3684240"/>
                <a:ext cx="82764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460560" y="8404200"/>
              <a:ext cx="3170880" cy="1291320"/>
              <a:chOff x="6460560" y="8404200"/>
              <a:chExt cx="3170880" cy="1291320"/>
            </a:xfrm>
          </p:grpSpPr>
          <p:sp>
            <p:nvSpPr>
              <p:cNvPr id="205" name=""/>
              <p:cNvSpPr/>
              <p:nvPr/>
            </p:nvSpPr>
            <p:spPr>
              <a:xfrm>
                <a:off x="6590520" y="8404200"/>
                <a:ext cx="3040920" cy="1291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Home button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60560" y="8456400"/>
                <a:ext cx="369360" cy="37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89120" y="5056200"/>
              <a:ext cx="3588120" cy="834120"/>
              <a:chOff x="789120" y="5056200"/>
              <a:chExt cx="3588120" cy="834120"/>
            </a:xfrm>
          </p:grpSpPr>
          <p:sp>
            <p:nvSpPr>
              <p:cNvPr id="208" name=""/>
              <p:cNvSpPr/>
              <p:nvPr/>
            </p:nvSpPr>
            <p:spPr>
              <a:xfrm>
                <a:off x="789120" y="5056200"/>
                <a:ext cx="2988720" cy="83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Home screen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3676680" y="5582160"/>
                <a:ext cx="700560" cy="1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4200" bIns="-34200"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83760" y="6666840"/>
              <a:ext cx="2813760" cy="834120"/>
              <a:chOff x="1283760" y="6666840"/>
              <a:chExt cx="2813760" cy="834120"/>
            </a:xfrm>
          </p:grpSpPr>
          <p:sp>
            <p:nvSpPr>
              <p:cNvPr id="211" name=""/>
              <p:cNvSpPr/>
              <p:nvPr/>
            </p:nvSpPr>
            <p:spPr>
              <a:xfrm>
                <a:off x="1283760" y="6666840"/>
                <a:ext cx="2106360" cy="83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Dock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2990520" y="7166880"/>
                <a:ext cx="1107000" cy="16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220400" y="3393720"/>
              <a:ext cx="3271320" cy="1366200"/>
              <a:chOff x="1220400" y="3393720"/>
              <a:chExt cx="3271320" cy="1366200"/>
            </a:xfrm>
          </p:grpSpPr>
          <p:sp>
            <p:nvSpPr>
              <p:cNvPr id="214" name=""/>
              <p:cNvSpPr/>
              <p:nvPr/>
            </p:nvSpPr>
            <p:spPr>
              <a:xfrm>
                <a:off x="1220400" y="3717720"/>
                <a:ext cx="2581920" cy="1042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Noteworthy Light"/>
                    <a:ea typeface="Noteworthy Light"/>
                  </a:rPr>
                  <a:t>Status bar</a:t>
                </a: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622320" y="3393720"/>
                <a:ext cx="869400" cy="51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CS_2.jpg" descr=""/>
          <p:cNvPicPr/>
          <p:nvPr/>
        </p:nvPicPr>
        <p:blipFill>
          <a:blip r:embed="rId1"/>
          <a:stretch/>
        </p:blipFill>
        <p:spPr>
          <a:xfrm flipH="1"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7680" y="2763360"/>
            <a:ext cx="37800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Built In App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8" name=""/>
          <p:cNvSpPr/>
          <p:nvPr/>
        </p:nvSpPr>
        <p:spPr>
          <a:xfrm>
            <a:off x="861840" y="4057560"/>
            <a:ext cx="4133880" cy="5270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FaceTim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hoto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amer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lock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hoto Booth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19" name="InsertedImage.jpg" descr="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468160" y="1173240"/>
            <a:ext cx="1389240" cy="5983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0" name="InsertedImage.jpg" descr=""/>
          <p:cNvPicPr/>
          <p:nvPr/>
        </p:nvPicPr>
        <p:blipFill>
          <a:blip r:embed="rId3"/>
          <a:stretch/>
        </p:blipFill>
        <p:spPr>
          <a:xfrm rot="1532400">
            <a:off x="8237520" y="442800"/>
            <a:ext cx="1552680" cy="2059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113440" y="4057560"/>
            <a:ext cx="3022560" cy="5270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alenda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Not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Reminde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Newsst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iTun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pp Stor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2" name=""/>
          <p:cNvSpPr/>
          <p:nvPr/>
        </p:nvSpPr>
        <p:spPr>
          <a:xfrm>
            <a:off x="9356760" y="3922560"/>
            <a:ext cx="3022560" cy="4081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Game Center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Safari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ideo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CS_2.jpg" descr=""/>
          <p:cNvPicPr/>
          <p:nvPr/>
        </p:nvPicPr>
        <p:blipFill>
          <a:blip r:embed="rId1"/>
          <a:stretch/>
        </p:blipFill>
        <p:spPr>
          <a:xfrm flipH="1">
            <a:off x="0" y="-455760"/>
            <a:ext cx="13004640" cy="2995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02040" y="2268000"/>
            <a:ext cx="4021200" cy="12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Accessibility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563400" y="8131320"/>
            <a:ext cx="2087640" cy="108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Dictation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3376440" y="8985240"/>
            <a:ext cx="1270080" cy="431640"/>
          </a:xfrm>
          <a:prstGeom prst="pie">
            <a:avLst/>
          </a:pr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7" name=""/>
          <p:cNvSpPr/>
          <p:nvPr/>
        </p:nvSpPr>
        <p:spPr>
          <a:xfrm>
            <a:off x="3668760" y="9074160"/>
            <a:ext cx="698400" cy="21600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76440" y="7931160"/>
            <a:ext cx="1267560" cy="1267560"/>
            <a:chOff x="3376440" y="7931160"/>
            <a:chExt cx="1267560" cy="1267560"/>
          </a:xfrm>
        </p:grpSpPr>
        <p:sp>
          <p:nvSpPr>
            <p:cNvPr id="229" name=""/>
            <p:cNvSpPr/>
            <p:nvPr/>
          </p:nvSpPr>
          <p:spPr>
            <a:xfrm>
              <a:off x="3376440" y="7931160"/>
              <a:ext cx="1267560" cy="1267560"/>
            </a:xfrm>
            <a:prstGeom prst="pie">
              <a:avLst/>
            </a:prstGeom>
            <a:solidFill>
              <a:srgbClr val="a0d71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29160" y="8134920"/>
              <a:ext cx="772920" cy="85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Siri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76240" y="6049800"/>
            <a:ext cx="1309680" cy="9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oice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2" name=""/>
          <p:cNvSpPr/>
          <p:nvPr/>
        </p:nvSpPr>
        <p:spPr>
          <a:xfrm>
            <a:off x="3376440" y="7013520"/>
            <a:ext cx="1270080" cy="432000"/>
          </a:xfrm>
          <a:prstGeom prst="pie">
            <a:avLst/>
          </a:pr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3668760" y="7102440"/>
            <a:ext cx="698400" cy="21600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376440" y="5965920"/>
            <a:ext cx="1267560" cy="1267560"/>
            <a:chOff x="3376440" y="5965920"/>
            <a:chExt cx="1267560" cy="1267560"/>
          </a:xfrm>
        </p:grpSpPr>
        <p:sp>
          <p:nvSpPr>
            <p:cNvPr id="235" name=""/>
            <p:cNvSpPr/>
            <p:nvPr/>
          </p:nvSpPr>
          <p:spPr>
            <a:xfrm>
              <a:off x="3376440" y="5965920"/>
              <a:ext cx="1267560" cy="1267560"/>
            </a:xfrm>
            <a:prstGeom prst="pie">
              <a:avLst/>
            </a:prstGeom>
            <a:solidFill>
              <a:srgbClr val="f4bc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17640" y="6092280"/>
              <a:ext cx="784440" cy="862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VO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80040" y="7013520"/>
            <a:ext cx="1270080" cy="432000"/>
          </a:xfrm>
          <a:prstGeom prst="pie">
            <a:avLst/>
          </a:pr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8" name=""/>
          <p:cNvSpPr/>
          <p:nvPr/>
        </p:nvSpPr>
        <p:spPr>
          <a:xfrm>
            <a:off x="6372360" y="7102440"/>
            <a:ext cx="698400" cy="21600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41880" y="5959440"/>
            <a:ext cx="1329480" cy="1267560"/>
            <a:chOff x="6041880" y="5959440"/>
            <a:chExt cx="1329480" cy="1267560"/>
          </a:xfrm>
        </p:grpSpPr>
        <p:sp>
          <p:nvSpPr>
            <p:cNvPr id="240" name=""/>
            <p:cNvSpPr/>
            <p:nvPr/>
          </p:nvSpPr>
          <p:spPr>
            <a:xfrm>
              <a:off x="6090120" y="5959440"/>
              <a:ext cx="1269720" cy="1267560"/>
            </a:xfrm>
            <a:prstGeom prst="pie">
              <a:avLst/>
            </a:prstGeom>
            <a:solidFill>
              <a:srgbClr val="f4bc5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41880" y="6163200"/>
              <a:ext cx="1329480" cy="85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Speak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1680" y="3981600"/>
            <a:ext cx="2097000" cy="1201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Visual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5041800"/>
            <a:ext cx="1270080" cy="432000"/>
          </a:xfrm>
          <a:prstGeom prst="pie">
            <a:avLst/>
          </a:pr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4" name=""/>
          <p:cNvSpPr/>
          <p:nvPr/>
        </p:nvSpPr>
        <p:spPr>
          <a:xfrm>
            <a:off x="6464160" y="5130720"/>
            <a:ext cx="698760" cy="21600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59600" y="3981600"/>
            <a:ext cx="1273680" cy="1273680"/>
            <a:chOff x="6159600" y="3981600"/>
            <a:chExt cx="1273680" cy="1273680"/>
          </a:xfrm>
        </p:grpSpPr>
        <p:sp>
          <p:nvSpPr>
            <p:cNvPr id="246" name=""/>
            <p:cNvSpPr/>
            <p:nvPr/>
          </p:nvSpPr>
          <p:spPr>
            <a:xfrm>
              <a:off x="6159600" y="3981600"/>
              <a:ext cx="1273680" cy="1273680"/>
            </a:xfrm>
            <a:prstGeom prst="pie">
              <a:avLst/>
            </a:prstGeom>
            <a:solidFill>
              <a:srgbClr val="baea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4080" y="4184640"/>
              <a:ext cx="932760" cy="85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Text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467160" y="5041800"/>
            <a:ext cx="1270080" cy="432000"/>
          </a:xfrm>
          <a:prstGeom prst="pie">
            <a:avLst/>
          </a:pr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9" name=""/>
          <p:cNvSpPr/>
          <p:nvPr/>
        </p:nvSpPr>
        <p:spPr>
          <a:xfrm>
            <a:off x="3759120" y="5130720"/>
            <a:ext cx="698760" cy="21600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454560" y="3981600"/>
            <a:ext cx="1292400" cy="1273680"/>
            <a:chOff x="3454560" y="3981600"/>
            <a:chExt cx="1292400" cy="1273680"/>
          </a:xfrm>
        </p:grpSpPr>
        <p:sp>
          <p:nvSpPr>
            <p:cNvPr id="251" name=""/>
            <p:cNvSpPr/>
            <p:nvPr/>
          </p:nvSpPr>
          <p:spPr>
            <a:xfrm>
              <a:off x="3454560" y="3981600"/>
              <a:ext cx="1276560" cy="1273680"/>
            </a:xfrm>
            <a:prstGeom prst="pie">
              <a:avLst/>
            </a:prstGeom>
            <a:solidFill>
              <a:srgbClr val="baea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3200">
              <a:off x="3465720" y="4184280"/>
              <a:ext cx="1279440" cy="85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Zoom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8678880" y="5041800"/>
            <a:ext cx="1270080" cy="432000"/>
          </a:xfrm>
          <a:prstGeom prst="pie">
            <a:avLst/>
          </a:prstGeom>
          <a:solidFill>
            <a:srgbClr val="b1b3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4" name=""/>
          <p:cNvSpPr/>
          <p:nvPr/>
        </p:nvSpPr>
        <p:spPr>
          <a:xfrm>
            <a:off x="8970840" y="5130720"/>
            <a:ext cx="698760" cy="216000"/>
          </a:xfrm>
          <a:prstGeom prst="pi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666280" y="3981600"/>
            <a:ext cx="1273680" cy="1273680"/>
            <a:chOff x="8666280" y="3981600"/>
            <a:chExt cx="1273680" cy="1273680"/>
          </a:xfrm>
        </p:grpSpPr>
        <p:sp>
          <p:nvSpPr>
            <p:cNvPr id="256" name=""/>
            <p:cNvSpPr/>
            <p:nvPr/>
          </p:nvSpPr>
          <p:spPr>
            <a:xfrm>
              <a:off x="8666280" y="3981600"/>
              <a:ext cx="1273680" cy="1273680"/>
            </a:xfrm>
            <a:prstGeom prst="pie">
              <a:avLst/>
            </a:prstGeom>
            <a:solidFill>
              <a:srgbClr val="baea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17760" y="4184640"/>
              <a:ext cx="1184760" cy="85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Noteworthy Light"/>
                  <a:ea typeface="Noteworthy Light"/>
                </a:rPr>
                <a:t>Color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pic>
        <p:nvPicPr>
          <p:cNvPr id="258" name="InsertedImage.jpg" descr=""/>
          <p:cNvPicPr/>
          <p:nvPr/>
        </p:nvPicPr>
        <p:blipFill>
          <a:blip r:embed="rId2"/>
          <a:srcRect l="22207" t="50285" r="39669" b="34041"/>
          <a:stretch/>
        </p:blipFill>
        <p:spPr>
          <a:xfrm rot="984600">
            <a:off x="2468520" y="743040"/>
            <a:ext cx="1389240" cy="5968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9" name="InsertedImage.jpg" descr=""/>
          <p:cNvPicPr/>
          <p:nvPr/>
        </p:nvPicPr>
        <p:blipFill>
          <a:blip r:embed="rId3"/>
          <a:stretch/>
        </p:blipFill>
        <p:spPr>
          <a:xfrm rot="1532400">
            <a:off x="8543880" y="233280"/>
            <a:ext cx="155268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S_2.jpg" descr=""/>
          <p:cNvPicPr/>
          <p:nvPr/>
        </p:nvPicPr>
        <p:blipFill>
          <a:blip r:embed="rId1"/>
          <a:stretch/>
        </p:blipFill>
        <p:spPr>
          <a:xfrm flipH="1">
            <a:off x="0" y="-25560"/>
            <a:ext cx="13004640" cy="2997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90120" y="2423880"/>
            <a:ext cx="5705640" cy="17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Connect Braille Display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2" name=""/>
          <p:cNvSpPr/>
          <p:nvPr/>
        </p:nvSpPr>
        <p:spPr>
          <a:xfrm>
            <a:off x="730080" y="4043520"/>
            <a:ext cx="11543040" cy="5709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80960" indent="-480960">
              <a:lnSpc>
                <a:spcPct val="100000"/>
              </a:lnSpc>
              <a:buClr>
                <a:srgbClr val="000000"/>
              </a:buClr>
              <a:buFont typeface="Noteworthy Light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urn on Braille displa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480960" indent="-480960">
              <a:lnSpc>
                <a:spcPct val="100000"/>
              </a:lnSpc>
              <a:buClr>
                <a:srgbClr val="000000"/>
              </a:buClr>
              <a:buFont typeface="Noteworthy Light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Turn on Bluetooth: Settings &gt; General &gt; Bluetooth and turn 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480960" indent="-480960">
              <a:lnSpc>
                <a:spcPct val="100000"/>
              </a:lnSpc>
              <a:buClr>
                <a:srgbClr val="000000"/>
              </a:buClr>
              <a:buFont typeface="Noteworthy Light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oteworthy Light"/>
                <a:ea typeface="Noteworthy Light"/>
              </a:rPr>
              <a:t>Pair display: General &gt; Accessibility &gt; VoiceOver &gt; Braille &gt; Choose displa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3" name="InsertedImage.jpg" descr=""/>
          <p:cNvPicPr/>
          <p:nvPr/>
        </p:nvPicPr>
        <p:blipFill>
          <a:blip r:embed="rId2"/>
          <a:stretch/>
        </p:blipFill>
        <p:spPr>
          <a:xfrm rot="1532400">
            <a:off x="8237520" y="442800"/>
            <a:ext cx="1552680" cy="2059200"/>
          </a:xfrm>
          <a:prstGeom prst="rect">
            <a:avLst/>
          </a:prstGeom>
          <a:ln w="0">
            <a:noFill/>
          </a:ln>
        </p:spPr>
      </p:pic>
      <p:pic>
        <p:nvPicPr>
          <p:cNvPr id="264" name="asset.png" descr=""/>
          <p:cNvPicPr/>
          <p:nvPr/>
        </p:nvPicPr>
        <p:blipFill>
          <a:blip r:embed="rId3"/>
          <a:srcRect l="0" t="10050" r="0" b="9842"/>
          <a:stretch/>
        </p:blipFill>
        <p:spPr>
          <a:xfrm rot="663000">
            <a:off x="2333160" y="1050480"/>
            <a:ext cx="1586160" cy="8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